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9.jpeg" ContentType="image/jpe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13.png" ContentType="image/png"/>
  <Override PartName="/ppt/media/image36.wmf" ContentType="image/x-wmf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D733-8E74-419D-B76F-0FAC0383B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m will introduce the unit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ABDA-C65B-4089-9987-BDA998077412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1.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ity: Points , lines, and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ish up with 1.2-1.3 WBME 1.1, 1.2, 1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 1.4 – 1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SP l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CDF6-CA1C-4543-B26B-2A8F763D4D2C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manipulate activity to answer questions from han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s:  tape, scissors, Plane M, Plane N, Acti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12D6-818D-45FC-A276-E13EA3377271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UAL:                   Geometry in your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STHETIC:          String Art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AL:                   Students will tell a story about the basic undefined terms in geometry using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terms from unit #1, minimum of 15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TEN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Students will create a crossword puzzle with at least 20 vocabulary  wo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list provided for unit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FB7A-68DC-4DC8-982C-EEC2EBEF132B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A4A-83BB-4B0F-B8C2-687ADCDA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6DA-F33D-45FF-9AC6-FB9B61C3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156-9787-4524-88BD-5560D5FE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687-75AF-41E7-A329-28394FE0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52239-F634-44D2-95B9-652EDD30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3AAFD-FB00-4927-B1FC-B33850F6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C1766-CBF9-4664-AD1B-967A10D1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01DFC-A838-43F4-B999-83AC9573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D2C67-EF98-4AFE-BAD2-8C719166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1B3BB-0140-4D7E-9705-4A403DB9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9143D-6FDC-4855-8193-AEEAF86E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247-BED5-46C6-BF52-E99344B3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8CB44-3159-406F-8618-990218D9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8228D-AF33-4686-A952-13FDC917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8FF77-780A-4FDE-B3FF-A2E98973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8797C-C98B-444D-A945-06F66E18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00666-95F2-4545-844F-16CEC449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30499-7AA5-4D88-8CEF-F5BC3D4D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974F-AEC5-400D-B045-638D4271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DDD4B-1A45-4C75-82AA-A20251C0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247C5-2CE2-47CB-A93B-4FDC3972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1022A-2314-48AF-82FD-CF225B62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64CC-F793-4EFE-B403-468490CF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8AD8A-99AB-453D-8082-0CA96BE5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66F3F-99D8-48CF-B87B-A76B1946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F341-ED08-446E-9C11-2652B84E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ED304-1B87-421F-9BEF-442683CA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0D08F-6FC3-44B9-9F91-E07F774C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684C2-468D-4F12-8760-B872B2D4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CB5EE-A997-462C-A140-8152A4DB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304733-896C-43F4-B79E-91F74C6C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72EB7C-3AA7-4169-8934-C7F35D28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755718-3770-4A54-B3FF-156D26E2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7F7C-3167-4CE7-BD16-3F04569D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FC7E0-D775-43F7-8061-02350929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7F4F8B-75B3-4941-BB24-F709FFC9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C5795D-8971-45DB-9C39-1592BE22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B9A395-E895-447E-9FF5-4D036673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EEC241-2CF8-4125-B6B4-2A920B8E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AE37D0-716E-4312-84E4-06FA0AAD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B110C-DD9A-422E-A5C5-B17D11A6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C893E-F3D7-4378-AEA4-B37F776D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7DC5DF-6F99-4053-9CFB-C3A05E00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BF43-D3A9-46A9-83A9-1FA5C1F7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911-2A7B-4B6A-9A67-AD6EBB4B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5E4-3CC7-44CF-840A-69E4EA5F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841-6BF9-458A-8C82-DE444F1E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BDDA-5079-4ECA-A652-C3B61181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02B0-FDEA-426D-A5A9-281ABF3660A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B0F4-BE3B-4FBC-945B-A10CEBF899C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4AE9-38B7-43A4-9A0F-FE1761A6A7E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9FE8-BC04-4526-A2A4-4EB1EDA0862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209320" y="39625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RUSMP 2009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Learning Pla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Adam Jordan &amp; Anna Cedillo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Title 1" descr=""/>
          <p:cNvPicPr/>
          <p:nvPr/>
        </p:nvPicPr>
        <p:blipFill>
          <a:blip r:embed="rId1"/>
          <a:stretch/>
        </p:blipFill>
        <p:spPr>
          <a:xfrm>
            <a:off x="774720" y="1749600"/>
            <a:ext cx="789948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98440" y="225360"/>
            <a:ext cx="8394840" cy="1231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1905120" cy="1914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3"/>
          <a:stretch/>
        </p:blipFill>
        <p:spPr>
          <a:xfrm>
            <a:off x="5334120" y="5791320"/>
            <a:ext cx="3263760" cy="533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276720" y="4876920"/>
            <a:ext cx="1780920" cy="1666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5"/>
          <a:stretch/>
        </p:blipFill>
        <p:spPr>
          <a:xfrm>
            <a:off x="533520" y="3962520"/>
            <a:ext cx="1590480" cy="1581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6"/>
          <a:stretch/>
        </p:blipFill>
        <p:spPr>
          <a:xfrm>
            <a:off x="6553080" y="3733920"/>
            <a:ext cx="2067120" cy="561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7"/>
          <a:stretch/>
        </p:blipFill>
        <p:spPr>
          <a:xfrm>
            <a:off x="685800" y="5715000"/>
            <a:ext cx="1219320" cy="3999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4"/>
          <p:cNvSpPr/>
          <p:nvPr/>
        </p:nvSpPr>
        <p:spPr>
          <a:xfrm>
            <a:off x="152280" y="32004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Pythagorean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 Theore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6324480" y="32004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c891"/>
                </a:solidFill>
                <a:latin typeface="Constantia"/>
              </a:rPr>
              <a:t>Midpoint formul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5410080" y="51814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cee6"/>
                </a:solidFill>
                <a:latin typeface="Constantia"/>
              </a:rPr>
              <a:t>Distance formul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57" name="Straight Arrow Connector 17"/>
          <p:cNvCxnSpPr/>
          <p:nvPr/>
        </p:nvCxnSpPr>
        <p:spPr>
          <a:xfrm flipV="1">
            <a:off x="533520" y="14472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sp>
        <p:nvSpPr>
          <p:cNvPr id="258" name="Text Box 14"/>
          <p:cNvSpPr/>
          <p:nvPr/>
        </p:nvSpPr>
        <p:spPr>
          <a:xfrm>
            <a:off x="609480" y="1676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s lesson will take groups of students through various GSP labs which will develop and connect the formulas below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Has six (6) lessons that deal with basic geometric terminology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298440" y="291960"/>
            <a:ext cx="8474040" cy="860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prism"/>
          <p:cNvPicPr/>
          <p:nvPr/>
        </p:nvPicPr>
        <p:blipFill>
          <a:blip r:embed="rId2"/>
          <a:stretch/>
        </p:blipFill>
        <p:spPr>
          <a:xfrm>
            <a:off x="7162920" y="5029200"/>
            <a:ext cx="1692000" cy="1295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intersect"/>
          <p:cNvPicPr/>
          <p:nvPr/>
        </p:nvPicPr>
        <p:blipFill>
          <a:blip r:embed="rId3"/>
          <a:stretch/>
        </p:blipFill>
        <p:spPr>
          <a:xfrm>
            <a:off x="5562720" y="4038480"/>
            <a:ext cx="1874880" cy="914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plane"/>
          <p:cNvPicPr/>
          <p:nvPr/>
        </p:nvPicPr>
        <p:blipFill>
          <a:blip r:embed="rId4"/>
          <a:stretch/>
        </p:blipFill>
        <p:spPr>
          <a:xfrm>
            <a:off x="3124080" y="3962520"/>
            <a:ext cx="1524240" cy="1439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labeling lines"/>
          <p:cNvPicPr/>
          <p:nvPr/>
        </p:nvPicPr>
        <p:blipFill>
          <a:blip r:embed="rId5"/>
          <a:stretch/>
        </p:blipFill>
        <p:spPr>
          <a:xfrm>
            <a:off x="3048120" y="2362320"/>
            <a:ext cx="1371600" cy="1261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angbisect1"/>
          <p:cNvPicPr/>
          <p:nvPr/>
        </p:nvPicPr>
        <p:blipFill>
          <a:blip r:embed="rId6"/>
          <a:stretch/>
        </p:blipFill>
        <p:spPr>
          <a:xfrm>
            <a:off x="1066680" y="4267080"/>
            <a:ext cx="1447920" cy="1271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ongruent segments"/>
          <p:cNvPicPr/>
          <p:nvPr/>
        </p:nvPicPr>
        <p:blipFill>
          <a:blip r:embed="rId7"/>
          <a:stretch/>
        </p:blipFill>
        <p:spPr>
          <a:xfrm>
            <a:off x="5257800" y="2209680"/>
            <a:ext cx="1943280" cy="914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adjangle1"/>
          <p:cNvPicPr/>
          <p:nvPr/>
        </p:nvPicPr>
        <p:blipFill>
          <a:blip r:embed="rId8"/>
          <a:stretch/>
        </p:blipFill>
        <p:spPr>
          <a:xfrm>
            <a:off x="838080" y="2438280"/>
            <a:ext cx="1765440" cy="1319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vertangle1"/>
          <p:cNvPicPr/>
          <p:nvPr/>
        </p:nvPicPr>
        <p:blipFill>
          <a:blip r:embed="rId9"/>
          <a:stretch/>
        </p:blipFill>
        <p:spPr>
          <a:xfrm>
            <a:off x="5105520" y="5181480"/>
            <a:ext cx="187488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idpt formula"/>
          <p:cNvPicPr/>
          <p:nvPr/>
        </p:nvPicPr>
        <p:blipFill>
          <a:blip r:embed="rId10"/>
          <a:stretch/>
        </p:blipFill>
        <p:spPr>
          <a:xfrm>
            <a:off x="1143000" y="5791320"/>
            <a:ext cx="3429000" cy="525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dist formula"/>
          <p:cNvPicPr/>
          <p:nvPr/>
        </p:nvPicPr>
        <p:blipFill>
          <a:blip r:embed="rId11"/>
          <a:stretch/>
        </p:blipFill>
        <p:spPr>
          <a:xfrm>
            <a:off x="4876920" y="3276720"/>
            <a:ext cx="3595680" cy="380880"/>
          </a:xfrm>
          <a:prstGeom prst="rect">
            <a:avLst/>
          </a:prstGeom>
          <a:ln w="0">
            <a:noFill/>
          </a:ln>
        </p:spPr>
      </p:pic>
      <p:cxnSp>
        <p:nvCxnSpPr>
          <p:cNvPr id="191" name="Straight Arrow Connector 14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Title 1" descr=""/>
          <p:cNvPicPr/>
          <p:nvPr/>
        </p:nvPicPr>
        <p:blipFill>
          <a:blip r:embed="rId1"/>
          <a:stretch/>
        </p:blipFill>
        <p:spPr>
          <a:xfrm>
            <a:off x="334800" y="176040"/>
            <a:ext cx="8491680" cy="1354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7200" y="1828440"/>
            <a:ext cx="4059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lesson introduces students to the undefined terms – point, line, &amp; plan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gment, endpoint, ray, and opposite rays are also introduced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7960" y="1828440"/>
            <a:ext cx="4059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CTIVITY used to evaluate student ability to differentiate between geometric concepts while using the Plane Activ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95" name="Straight Arrow Connector 6"/>
          <p:cNvCxnSpPr/>
          <p:nvPr/>
        </p:nvCxnSpPr>
        <p:spPr>
          <a:xfrm flipV="1">
            <a:off x="533520" y="16002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196" name="Picture 0" descr="Intersecting planes M &amp; N (1).JPG"/>
          <p:cNvPicPr/>
          <p:nvPr/>
        </p:nvPicPr>
        <p:blipFill>
          <a:blip r:embed="rId2"/>
          <a:stretch/>
        </p:blipFill>
        <p:spPr>
          <a:xfrm>
            <a:off x="5486400" y="4495680"/>
            <a:ext cx="27558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219240" y="450720"/>
            <a:ext cx="8474040" cy="927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304920" y="1523520"/>
            <a:ext cx="4287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isu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ometry in Your Worl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7960" y="1523520"/>
            <a:ext cx="4059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inestheti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ring A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Content Placeholder 8" descr="DSC01500.JPG"/>
          <p:cNvPicPr/>
          <p:nvPr/>
        </p:nvPicPr>
        <p:blipFill>
          <a:blip r:embed="rId2"/>
          <a:stretch/>
        </p:blipFill>
        <p:spPr>
          <a:xfrm>
            <a:off x="5562720" y="4495680"/>
            <a:ext cx="1600200" cy="1981440"/>
          </a:xfrm>
          <a:prstGeom prst="rect">
            <a:avLst/>
          </a:prstGeom>
          <a:ln w="0">
            <a:noFill/>
          </a:ln>
        </p:spPr>
      </p:pic>
      <p:pic>
        <p:nvPicPr>
          <p:cNvPr id="201" name="Content Placeholder 9" descr="DSC01569.JPG"/>
          <p:cNvPicPr/>
          <p:nvPr/>
        </p:nvPicPr>
        <p:blipFill>
          <a:blip r:embed="rId3"/>
          <a:stretch/>
        </p:blipFill>
        <p:spPr>
          <a:xfrm rot="9239400">
            <a:off x="5395680" y="2476080"/>
            <a:ext cx="1527120" cy="1333440"/>
          </a:xfrm>
          <a:prstGeom prst="rect">
            <a:avLst/>
          </a:prstGeom>
          <a:ln w="0">
            <a:noFill/>
          </a:ln>
        </p:spPr>
      </p:pic>
      <p:pic>
        <p:nvPicPr>
          <p:cNvPr id="202" name="Content Placeholder 9" descr="DSC01569.JPG"/>
          <p:cNvPicPr/>
          <p:nvPr/>
        </p:nvPicPr>
        <p:blipFill>
          <a:blip r:embed="rId4"/>
          <a:stretch/>
        </p:blipFill>
        <p:spPr>
          <a:xfrm>
            <a:off x="7238880" y="3352680"/>
            <a:ext cx="1506600" cy="2008440"/>
          </a:xfrm>
          <a:prstGeom prst="rect">
            <a:avLst/>
          </a:prstGeom>
          <a:ln w="0">
            <a:noFill/>
          </a:ln>
        </p:spPr>
      </p:pic>
      <p:pic>
        <p:nvPicPr>
          <p:cNvPr id="203" name="Content Placeholder 9" descr="DSC01569.JPG"/>
          <p:cNvPicPr/>
          <p:nvPr/>
        </p:nvPicPr>
        <p:blipFill>
          <a:blip r:embed="rId5"/>
          <a:stretch/>
        </p:blipFill>
        <p:spPr>
          <a:xfrm rot="19113600">
            <a:off x="7118280" y="1802880"/>
            <a:ext cx="1497240" cy="1122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6"/>
          <a:stretch/>
        </p:blipFill>
        <p:spPr>
          <a:xfrm rot="21380400">
            <a:off x="539640" y="27493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/>
          <p:cNvPicPr/>
          <p:nvPr/>
        </p:nvPicPr>
        <p:blipFill>
          <a:blip r:embed="rId7"/>
          <a:stretch/>
        </p:blipFill>
        <p:spPr>
          <a:xfrm>
            <a:off x="2438280" y="2438280"/>
            <a:ext cx="1562400" cy="2133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8"/>
          <a:stretch/>
        </p:blipFill>
        <p:spPr>
          <a:xfrm rot="20355600">
            <a:off x="658440" y="4155840"/>
            <a:ext cx="1846440" cy="1760400"/>
          </a:xfrm>
          <a:prstGeom prst="rect">
            <a:avLst/>
          </a:prstGeom>
          <a:ln w="0">
            <a:noFill/>
          </a:ln>
        </p:spPr>
      </p:pic>
      <p:cxnSp>
        <p:nvCxnSpPr>
          <p:cNvPr id="207" name="Straight Arrow Connector 11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208" name="Picture 12" descr=""/>
          <p:cNvPicPr/>
          <p:nvPr/>
        </p:nvPicPr>
        <p:blipFill>
          <a:blip r:embed="rId9"/>
          <a:stretch/>
        </p:blipFill>
        <p:spPr>
          <a:xfrm rot="797400">
            <a:off x="3015720" y="4578120"/>
            <a:ext cx="15987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219240" y="450720"/>
            <a:ext cx="8474040" cy="927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04920" y="1523880"/>
            <a:ext cx="4287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ritte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reating a crossword puzzle with minimum of 20 word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7960" y="1523520"/>
            <a:ext cx="4059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erb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ll a story about the undefined terms in Geometry and how everything can relate back to these terms.  Must use minimum of 15 word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12" name="Straight Arrow Connector 11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213" name="Picture 5" descr="DSC03359.JPG"/>
          <p:cNvPicPr/>
          <p:nvPr/>
        </p:nvPicPr>
        <p:blipFill>
          <a:blip r:embed="rId2"/>
          <a:stretch/>
        </p:blipFill>
        <p:spPr>
          <a:xfrm>
            <a:off x="6248520" y="4648320"/>
            <a:ext cx="2235240" cy="1676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3"/>
          <a:stretch/>
        </p:blipFill>
        <p:spPr>
          <a:xfrm>
            <a:off x="2514600" y="3505320"/>
            <a:ext cx="2057400" cy="990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"/>
          <p:cNvPicPr/>
          <p:nvPr/>
        </p:nvPicPr>
        <p:blipFill>
          <a:blip r:embed="rId4"/>
          <a:stretch/>
        </p:blipFill>
        <p:spPr>
          <a:xfrm>
            <a:off x="2666880" y="4648320"/>
            <a:ext cx="1755720" cy="860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"/>
          <p:cNvPicPr/>
          <p:nvPr/>
        </p:nvPicPr>
        <p:blipFill>
          <a:blip r:embed="rId5"/>
          <a:stretch/>
        </p:blipFill>
        <p:spPr>
          <a:xfrm>
            <a:off x="533520" y="3581280"/>
            <a:ext cx="1828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457200" y="2057400"/>
            <a:ext cx="4059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introduction of the Segment Addition Postulate is crucial to the understanding of solving for  unknown values .  The difference between “midpoint” and “between” arises in this less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19" name="Straight Arrow Connector 5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sp>
        <p:nvSpPr>
          <p:cNvPr id="220" name="Rectangle 5"/>
          <p:cNvSpPr/>
          <p:nvPr/>
        </p:nvSpPr>
        <p:spPr>
          <a:xfrm>
            <a:off x="4800600" y="182880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Distanc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i="1" lang="en-US" sz="3200" spc="-1" strike="noStrike">
                <a:solidFill>
                  <a:srgbClr val="f3a447"/>
                </a:solidFill>
                <a:latin typeface="Constanti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Constantia"/>
              </a:rPr>
              <a:t>|</a:t>
            </a: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– </a:t>
            </a:r>
            <a:r>
              <a:rPr b="0" i="1" lang="en-US" sz="3200" spc="-1" strike="noStrike">
                <a:solidFill>
                  <a:srgbClr val="f3a447"/>
                </a:solidFill>
                <a:latin typeface="Constantia"/>
              </a:rPr>
              <a:t>b</a:t>
            </a:r>
            <a:r>
              <a:rPr b="0" i="1" lang="en-US" sz="3200" spc="-1" strike="noStrike">
                <a:solidFill>
                  <a:srgbClr val="ffffff"/>
                </a:solidFill>
                <a:latin typeface="Constantia"/>
              </a:rPr>
              <a:t>|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or |</a:t>
            </a:r>
            <a:r>
              <a:rPr b="0" i="1" lang="en-US" sz="3200" spc="-1" strike="noStrike">
                <a:solidFill>
                  <a:srgbClr val="f3a447"/>
                </a:solidFill>
                <a:latin typeface="Constanti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- </a:t>
            </a: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|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135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4086360" cy="12956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1"/>
          <p:cNvSpPr/>
          <p:nvPr/>
        </p:nvSpPr>
        <p:spPr>
          <a:xfrm>
            <a:off x="48006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Betwee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5867280" y="5664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8534520" y="5740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352680" y="5664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114800" y="5740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+ 6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6934320" y="5753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7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– 9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3505320" y="6248520"/>
            <a:ext cx="518148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6019920" y="613584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1295280" y="5867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Midpoin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160" y="190512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gle Addition Postulate allows students to work with angles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aming angles and measures of an angle is discussed in this sect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ypes of angles such as acute angle, right angle, obtuse angles and straight angles are part of this less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33" name="Straight Arrow Connector 4"/>
          <p:cNvCxnSpPr/>
          <p:nvPr/>
        </p:nvCxnSpPr>
        <p:spPr>
          <a:xfrm flipV="1">
            <a:off x="533520" y="16002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2944800" cy="1873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257800" y="4114800"/>
            <a:ext cx="28861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2057040"/>
            <a:ext cx="4059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ce the basics of points, lines, planes, angles, etc have been established, we dive deeper with angles by using the computer with Geometer Sketchpa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38" name="Straight Arrow Connector 4"/>
          <p:cNvCxnSpPr/>
          <p:nvPr/>
        </p:nvCxnSpPr>
        <p:spPr>
          <a:xfrm flipV="1">
            <a:off x="533520" y="1371600"/>
            <a:ext cx="815400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5119560" y="2746440"/>
            <a:ext cx="3114720" cy="2354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4419720" y="1828800"/>
            <a:ext cx="4190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SP lab # 11 vertical ang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5257800" y="4267080"/>
            <a:ext cx="1676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Observations: No matter where the points move the vertical angles have the same measure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19240" y="36360"/>
            <a:ext cx="8474040" cy="1494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 rot="1974600">
            <a:off x="6875280" y="1854360"/>
            <a:ext cx="790560" cy="1419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3"/>
          <a:stretch/>
        </p:blipFill>
        <p:spPr>
          <a:xfrm>
            <a:off x="6324480" y="3962520"/>
            <a:ext cx="2365560" cy="2209680"/>
          </a:xfrm>
          <a:prstGeom prst="rect">
            <a:avLst/>
          </a:prstGeom>
          <a:ln w="0">
            <a:noFill/>
          </a:ln>
        </p:spPr>
      </p:pic>
      <p:sp>
        <p:nvSpPr>
          <p:cNvPr id="245" name="Content Placeholder 3"/>
          <p:cNvSpPr/>
          <p:nvPr/>
        </p:nvSpPr>
        <p:spPr>
          <a:xfrm>
            <a:off x="609480" y="1676520"/>
            <a:ext cx="5562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ow that students are familiar with GSP, they will explore different topics in groups then share their results with the cla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Formulas included in this section includ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Area and perimeter of a rectang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Area and perimeter of a squar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Area and perimeter of a triang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Area  and Circumference of a circ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46" name="Straight Arrow Connector 17"/>
          <p:cNvCxnSpPr/>
          <p:nvPr/>
        </p:nvCxnSpPr>
        <p:spPr>
          <a:xfrm flipV="1">
            <a:off x="380520" y="1523880"/>
            <a:ext cx="8154360" cy="76680"/>
          </a:xfrm>
          <a:prstGeom prst="straightConnector1">
            <a:avLst/>
          </a:prstGeom>
          <a:ln w="28440">
            <a:solidFill>
              <a:srgbClr val="a5b592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8T01:39:40Z</dcterms:created>
  <dc:creator>BONESY</dc:creator>
  <dc:description/>
  <dc:language>en-US</dc:language>
  <cp:lastModifiedBy>teacher</cp:lastModifiedBy>
  <dcterms:modified xsi:type="dcterms:W3CDTF">2009-06-29T22:20:56Z</dcterms:modified>
  <cp:revision>12</cp:revision>
  <dc:subject/>
  <dc:title>Introduction to Geometry                   Unit #1</dc:title>
</cp:coreProperties>
</file>